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063-354A-4097-B582-C14DA670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AB1-2A4F-468C-8AA4-61F3851E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94E-BB0F-414D-8E54-558C2BBC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825-40A5-4468-AD68-1C07D958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5CF2F-6A92-4FD8-8044-4A71410D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A516D-A9B7-41A0-A9D8-55E7EE8A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17F07-AF3B-41E9-A50F-13977AAF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E8B96-2988-4DAE-8C9E-39DC007F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0F38B-6BD4-41F1-8E61-2DD4BBA5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548B8-4139-4469-8D86-C4F82A6E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D8C9B-5F64-4044-BC3D-7D6D2CAB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6D0-45B2-4699-AE73-6E002078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8EE1E-2664-4877-8CF3-4E680DC4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3D1CB-EC87-4D7C-92B0-AD8DE0C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9951B-B1E6-4DAF-9343-261A3575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AFD16-502E-43CA-B29A-1532D96B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B04B2-389C-45DB-9489-A51F4DF5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169-EDAB-4780-89B0-75D2BA9C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B59-8605-40C0-A8CF-886EEE4B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F18-77C2-47CC-A259-0120B568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B9F-9A00-4CB9-B739-6C159D7F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09A2-D7B6-450B-8933-662CA56C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EF5-6398-4C08-8E7A-77026172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10C4-21D0-4106-9C1F-7CD3EDF4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A3B3-0D5A-4502-95D3-6BA6BA677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0618-5B57-461D-8AA6-95146CE670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4000" y="260280"/>
            <a:ext cx="864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МОУ "Половинская начальная школа - детский сад"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844640"/>
            <a:ext cx="856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ettenschweiler"/>
              </a:rPr>
              <a:t>"ОЧЁР - РЕКА ДЕТСТВА МОЕГО"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03640" y="4365720"/>
            <a:ext cx="3959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полнила: Касьянова Е.,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-ца 4 класса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к-ль: Болотов А.Ю.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40360" y="6237360"/>
            <a:ext cx="143964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09 г.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Изучение и описание реки Очё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. Изучить разные источники информации по р.Очё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. Сформулировать значение рек и воды для живых организм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3. Выявить источники негативного воздействия на р. Очё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. Систематизировать собранный материал и написать рабо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549360"/>
            <a:ext cx="4176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 работы: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5280" y="2133720"/>
            <a:ext cx="3240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: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Источник питьевой воды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. Источник биологических ресурсов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 Транспортный путь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. Источник полезных ископаемых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 Источник энерги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 Среда обитания живых организмов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7. Место отдыха для людей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8. Преграда для врагов в прошл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87280" y="260280"/>
            <a:ext cx="6913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е рек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9280" y="189000"/>
            <a:ext cx="871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чники негативного влияния на реки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03760" y="1274040"/>
            <a:ext cx="6937560" cy="5272920"/>
            <a:chOff x="1103760" y="1274040"/>
            <a:chExt cx="6937560" cy="5272920"/>
          </a:xfrm>
        </p:grpSpPr>
        <p:sp>
          <p:nvSpPr>
            <p:cNvPr id="95" name="_s14343"/>
            <p:cNvSpPr/>
            <p:nvPr/>
          </p:nvSpPr>
          <p:spPr>
            <a:xfrm flipH="1" flipV="1">
              <a:off x="3359520" y="2509560"/>
              <a:ext cx="871920" cy="1040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4344"/>
            <p:cNvSpPr/>
            <p:nvPr/>
          </p:nvSpPr>
          <p:spPr>
            <a:xfrm>
              <a:off x="2391120" y="1623600"/>
              <a:ext cx="1257120" cy="963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теплово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загрязне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14345"/>
            <p:cNvSpPr/>
            <p:nvPr/>
          </p:nvSpPr>
          <p:spPr>
            <a:xfrm flipH="1" flipV="1">
              <a:off x="2533320" y="3241800"/>
              <a:ext cx="1467000" cy="51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4346"/>
            <p:cNvSpPr/>
            <p:nvPr/>
          </p:nvSpPr>
          <p:spPr>
            <a:xfrm>
              <a:off x="1333080" y="2560320"/>
              <a:ext cx="1257120" cy="963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выруб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лес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4347"/>
            <p:cNvSpPr/>
            <p:nvPr/>
          </p:nvSpPr>
          <p:spPr>
            <a:xfrm flipH="1">
              <a:off x="2354040" y="4024080"/>
              <a:ext cx="1596600" cy="175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14348"/>
            <p:cNvSpPr/>
            <p:nvPr/>
          </p:nvSpPr>
          <p:spPr>
            <a:xfrm>
              <a:off x="1103760" y="3786840"/>
              <a:ext cx="1257120" cy="963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канализационные сток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4349"/>
            <p:cNvSpPr/>
            <p:nvPr/>
          </p:nvSpPr>
          <p:spPr>
            <a:xfrm flipH="1">
              <a:off x="2879640" y="4270320"/>
              <a:ext cx="1218960" cy="809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14350"/>
            <p:cNvSpPr/>
            <p:nvPr/>
          </p:nvSpPr>
          <p:spPr>
            <a:xfrm>
              <a:off x="1776600" y="4913640"/>
              <a:ext cx="1257480" cy="963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разработк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полезны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ископаемы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14351"/>
            <p:cNvSpPr/>
            <p:nvPr/>
          </p:nvSpPr>
          <p:spPr>
            <a:xfrm flipH="1">
              <a:off x="3941640" y="4416480"/>
              <a:ext cx="453960" cy="1185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14352"/>
            <p:cNvSpPr/>
            <p:nvPr/>
          </p:nvSpPr>
          <p:spPr>
            <a:xfrm>
              <a:off x="3137040" y="5583600"/>
              <a:ext cx="1257120" cy="963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лесоспла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14353"/>
            <p:cNvSpPr/>
            <p:nvPr/>
          </p:nvSpPr>
          <p:spPr>
            <a:xfrm>
              <a:off x="4750200" y="4416480"/>
              <a:ext cx="454320" cy="1184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14354"/>
            <p:cNvSpPr/>
            <p:nvPr/>
          </p:nvSpPr>
          <p:spPr>
            <a:xfrm>
              <a:off x="4753440" y="5582520"/>
              <a:ext cx="1257120" cy="963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внесе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удобрен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4355"/>
            <p:cNvSpPr/>
            <p:nvPr/>
          </p:nvSpPr>
          <p:spPr>
            <a:xfrm>
              <a:off x="5047560" y="4269600"/>
              <a:ext cx="1218240" cy="808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4356"/>
            <p:cNvSpPr/>
            <p:nvPr/>
          </p:nvSpPr>
          <p:spPr>
            <a:xfrm>
              <a:off x="6113160" y="4912560"/>
              <a:ext cx="1257480" cy="963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строительств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латин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14357"/>
            <p:cNvSpPr/>
            <p:nvPr/>
          </p:nvSpPr>
          <p:spPr>
            <a:xfrm>
              <a:off x="5194440" y="4022640"/>
              <a:ext cx="1595880" cy="175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4358"/>
            <p:cNvSpPr/>
            <p:nvPr/>
          </p:nvSpPr>
          <p:spPr>
            <a:xfrm>
              <a:off x="6784200" y="3785400"/>
              <a:ext cx="1257120" cy="963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вод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транспо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4359"/>
            <p:cNvSpPr/>
            <p:nvPr/>
          </p:nvSpPr>
          <p:spPr>
            <a:xfrm flipV="1">
              <a:off x="5142960" y="3240720"/>
              <a:ext cx="1467000" cy="51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4360"/>
            <p:cNvSpPr/>
            <p:nvPr/>
          </p:nvSpPr>
          <p:spPr>
            <a:xfrm>
              <a:off x="6554160" y="2559240"/>
              <a:ext cx="1257480" cy="9637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ферм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4361"/>
            <p:cNvSpPr/>
            <p:nvPr/>
          </p:nvSpPr>
          <p:spPr>
            <a:xfrm flipV="1">
              <a:off x="4911120" y="2509200"/>
              <a:ext cx="871920" cy="1040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4362"/>
            <p:cNvSpPr/>
            <p:nvPr/>
          </p:nvSpPr>
          <p:spPr>
            <a:xfrm>
              <a:off x="5495040" y="1622880"/>
              <a:ext cx="1257480" cy="9633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заводы 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фабри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4363"/>
            <p:cNvSpPr/>
            <p:nvPr/>
          </p:nvSpPr>
          <p:spPr>
            <a:xfrm flipV="1">
              <a:off x="4572000" y="2236680"/>
              <a:ext cx="0" cy="123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4364"/>
            <p:cNvSpPr/>
            <p:nvPr/>
          </p:nvSpPr>
          <p:spPr>
            <a:xfrm>
              <a:off x="3943800" y="1274040"/>
              <a:ext cx="1257120" cy="9637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турист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4365"/>
            <p:cNvSpPr/>
            <p:nvPr/>
          </p:nvSpPr>
          <p:spPr>
            <a:xfrm>
              <a:off x="3943800" y="3473640"/>
              <a:ext cx="1257120" cy="9633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источник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негативного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влиян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rcRect l="18324" t="15637" r="27097" b="30488"/>
          <a:stretch/>
        </p:blipFill>
        <p:spPr>
          <a:xfrm>
            <a:off x="1258920" y="0"/>
            <a:ext cx="66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Тексто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Агафонова Н.Н., Белавин А.М., Крыласова Н.Б. Страницы истории земли Пермской // под ред. А.М.Белавина, Пермь, 1995. 174 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Оханск: Серия «Пермский край». Пермь, 2002. 158 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Ширинкин А.В. Очёр-батюшка (том 1). Пермь, 2003. 244 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Назаров Н.Н., Шарыгин М.Д. «География Пермской области» Пермь, 1999. 247 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Гусева М.Н., Гаминова Н.А. и др. «Земля Очерская» учебное пособие по географии родного края, Очер, 1997. 127 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Картограф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Атлас Пермской области. География, история. М., 1999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Региональный атлас Пермская область и Коми-Пермяцкий автономный округ. М., 200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79640" y="260280"/>
            <a:ext cx="496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тература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755640" y="1125360"/>
            <a:ext cx="7632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ИМАНИЕ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9:33:06Z</dcterms:created>
  <dc:creator>1</dc:creator>
  <dc:description/>
  <dc:language>en-US</dc:language>
  <cp:lastModifiedBy>Директор</cp:lastModifiedBy>
  <dcterms:modified xsi:type="dcterms:W3CDTF">2009-11-20T06:54:52Z</dcterms:modified>
  <cp:revision>16</cp:revision>
  <dc:subject/>
  <dc:title>Слайд 1</dc:title>
</cp:coreProperties>
</file>